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EC4F-679F-44ED-8FC7-DEDE1859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BBD-9A65-4CB6-949D-C9A35680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A744-C3FC-4946-AD03-4EEDB923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EAC6-CD8B-4B8C-8C23-17275E92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BA35-775E-47C6-B9ED-712760FC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BF1B-FAF0-4AB6-9393-D39ECE2C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9EF9-9A49-459B-B091-833216F4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A46A-9823-4029-9F46-556E11BD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AB80-8B73-4E5C-B7F6-410C0377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B10A-3BC7-4E91-9318-C86F4539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6CE4-638B-42E0-B109-2228D4D1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E26B-500E-420B-A376-89A39E47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2745-CA13-4F00-8D64-6D866358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7EC8-D05E-44CA-9C7B-C697FB7C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09D2-A589-4FBE-BE20-0F666D36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49C8-8741-4746-86C4-6710C713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8D23-7103-417F-8A48-12400EC4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253-F97F-495A-BF86-7EBCB2E0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DEC-51F0-4BAA-B692-46DC9B8A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CF7C-8F60-4A99-9204-65A4EFE4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1A7-ECB4-435D-8AD5-335A7B91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E9F7-94B1-40D1-BDC4-D0160F00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15EC-D1FA-4284-A64F-B577B1DF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196-A46E-4F02-A633-9C5E652F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4e5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8383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8383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374e5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74e5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74e5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4e5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74e5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B37D-88B0-496C-9A47-744766474E5B}" type="slidenum">
              <a:rPr b="0" lang="en-US" sz="1400" spc="-1" strike="noStrike">
                <a:solidFill>
                  <a:srgbClr val="374e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4e5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374e5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74e5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74e5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4e5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74e5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77AA-8B88-474F-8A25-90EACFE4925D}" type="slidenum">
              <a:rPr b="0" lang="en-US" sz="1400" spc="-1" strike="noStrike">
                <a:solidFill>
                  <a:srgbClr val="374e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lideshare.net/profelengua/el-barroco-54396/1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74e5f"/>
                </a:solidFill>
                <a:latin typeface="Garamond"/>
              </a:rPr>
              <a:t>EL TEATRO BARROCO</a:t>
            </a:r>
            <a:endParaRPr b="0" lang="en-US" sz="5400" spc="-1" strike="noStrike">
              <a:solidFill>
                <a:srgbClr val="374e5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1446120"/>
            <a:ext cx="3743280" cy="2343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427640" y="3656160"/>
            <a:ext cx="4257720" cy="2795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07440" y="525780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404176"/>
                </a:solidFill>
                <a:latin typeface="Arial"/>
              </a:rPr>
              <a:t>Ruth Romero Estrad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3040" y="58309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176"/>
                </a:solidFill>
                <a:latin typeface="Arial"/>
              </a:rPr>
              <a:t>Junio de 2008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08000" y="623880"/>
            <a:ext cx="8966160" cy="55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374760"/>
            <a:ext cx="7991280" cy="607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384120"/>
            <a:ext cx="8748720" cy="606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74e5f"/>
                </a:solidFill>
                <a:uFillTx/>
                <a:latin typeface="Times New Roman"/>
              </a:rPr>
              <a:t>Estructura</a:t>
            </a:r>
            <a:r>
              <a:rPr b="0" lang="en-US" sz="2400" spc="-1" strike="noStrike">
                <a:solidFill>
                  <a:srgbClr val="374e5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74e5f"/>
                </a:solidFill>
                <a:uFillTx/>
                <a:latin typeface="Times New Roman"/>
              </a:rPr>
              <a:t>Tablado / escenario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: donde actúan los actores; detrás vestuario y tramoya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74e5f"/>
                </a:solidFill>
                <a:uFillTx/>
                <a:latin typeface="Times New Roman"/>
              </a:rPr>
              <a:t>Cazuela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: donde estaban las mujeres –de clase baja- (separadas de los hombres) // Posible origen  palabra: bullicio que había en ella; había un “</a:t>
            </a:r>
            <a:r>
              <a:rPr b="0" lang="en-US" sz="2000" spc="-1" strike="noStrike" u="sng">
                <a:solidFill>
                  <a:srgbClr val="374e5f"/>
                </a:solidFill>
                <a:uFillTx/>
                <a:latin typeface="Times New Roman"/>
              </a:rPr>
              <a:t>apretador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” que se encargaba de que todas cupieran…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en el patio: estaban los </a:t>
            </a:r>
            <a:r>
              <a:rPr b="0" lang="en-US" sz="2000" spc="-1" strike="noStrike" u="sng">
                <a:solidFill>
                  <a:srgbClr val="374e5f"/>
                </a:solidFill>
                <a:uFillTx/>
                <a:latin typeface="Times New Roman"/>
              </a:rPr>
              <a:t>mosqueteros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, gente que podía hacer triunfar / fracasar una obra (había gente que los “compraba” para que no hicieran barullo en sus obras o la competencia que les pagaba para que vituperaran…); comían, gritaban, arrojaban alimentos a los actores si no gustaban de la obra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74e5f"/>
                </a:solidFill>
                <a:uFillTx/>
                <a:latin typeface="Times New Roman"/>
              </a:rPr>
              <a:t>Alojería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: puesto de bebidas y frutas (vendían alcohol…)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74e5f"/>
                </a:solidFill>
                <a:uFillTx/>
                <a:latin typeface="Times New Roman"/>
              </a:rPr>
              <a:t>Palcos y Aposentos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: balcones en el piso superior para los nobles y caballeros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Por este motivo el escenario nunca queda vacío, siempre se está escenificando ALGO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284720" y="2708280"/>
            <a:ext cx="71280" cy="25923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859280" y="4149720"/>
            <a:ext cx="1946160" cy="12240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74e5f"/>
                </a:solidFill>
                <a:latin typeface="Times New Roman"/>
              </a:rPr>
              <a:t>Calendario</a:t>
            </a:r>
            <a:endParaRPr b="0" lang="en-US" sz="2600" spc="-1" strike="noStrike">
              <a:solidFill>
                <a:srgbClr val="374e5f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74e5f"/>
                </a:solidFill>
                <a:latin typeface="Times New Roman"/>
              </a:rPr>
              <a:t>La representación empezaba a las 14h en invierno, a las 15h en primavera, a las 16h en verano, siempre en función de la luz solar. </a:t>
            </a:r>
            <a:endParaRPr b="0" lang="en-US" sz="2600" spc="-1" strike="noStrike">
              <a:solidFill>
                <a:srgbClr val="374e5f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74e5f"/>
                </a:solidFill>
                <a:latin typeface="Times New Roman"/>
              </a:rPr>
              <a:t>La obra duraba unas </a:t>
            </a:r>
            <a:r>
              <a:rPr b="1" lang="es-ES" sz="2600" spc="-1" strike="noStrike">
                <a:solidFill>
                  <a:srgbClr val="374e5f"/>
                </a:solidFill>
                <a:latin typeface="Times New Roman"/>
              </a:rPr>
              <a:t>3 o 4 horas</a:t>
            </a:r>
            <a:r>
              <a:rPr b="0" lang="es-ES" sz="2600" spc="-1" strike="noStrike">
                <a:solidFill>
                  <a:srgbClr val="374e5f"/>
                </a:solidFill>
                <a:latin typeface="Times New Roman"/>
              </a:rPr>
              <a:t>, tiempo durante el cual, la escena nunca quedaba vacía, hecho que inquietaría a los mosqueteros…</a:t>
            </a:r>
            <a:endParaRPr b="0" lang="en-US" sz="2600" spc="-1" strike="noStrike">
              <a:solidFill>
                <a:srgbClr val="374e5f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74e5f"/>
                </a:solidFill>
                <a:latin typeface="Times New Roman"/>
              </a:rPr>
              <a:t>La temporada teatral iba del domingo de resurrección al miércoles de ceniza (desde que acaba la Semana Santa hasta después de carnaval): sin embargo, trabajaban, en tanto que eran los días aprovechados para preparar nuevos temas, nuevas obras, pactar con las casas de teatro, arreglar contratos, condiciones laborales… </a:t>
            </a:r>
            <a:endParaRPr b="0" lang="en-US" sz="26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5886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La estructura de una función era: 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Loa, 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9e4a"/>
                </a:solidFill>
                <a:latin typeface="Times New Roman"/>
              </a:rPr>
              <a:t>primera jornada (acto),</a:t>
            </a: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entremés, 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9e4a"/>
                </a:solidFill>
                <a:latin typeface="Times New Roman"/>
              </a:rPr>
              <a:t>segunda jornada,</a:t>
            </a: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jácaras o mojigangas, 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9e4a"/>
                </a:solidFill>
                <a:latin typeface="Times New Roman"/>
              </a:rPr>
              <a:t>tercera jornada</a:t>
            </a: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, y 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baile final.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La vida de los actores era muy dura: de pueblo en pueblo siempre actuando aunque también tenían cierta fama de libertinos…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74e5f"/>
                </a:solidFill>
                <a:latin typeface="Times New Roman"/>
              </a:rPr>
              <a:t>Arte nuevo de hacer comedias</a:t>
            </a:r>
            <a:r>
              <a:rPr b="0" lang="en-US" sz="3200" spc="-1" strike="noStrike">
                <a:solidFill>
                  <a:srgbClr val="374e5f"/>
                </a:solidFill>
                <a:latin typeface="Times New Roman"/>
              </a:rPr>
              <a:t>, Lope de Vega</a:t>
            </a:r>
            <a:endParaRPr b="0" lang="en-US" sz="32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LOPE DE VEGA y su libro </a:t>
            </a:r>
            <a:r>
              <a:rPr b="0" i="1" lang="en-US" sz="2000" spc="-1" strike="noStrike">
                <a:solidFill>
                  <a:srgbClr val="374e5f"/>
                </a:solidFill>
                <a:latin typeface="Times New Roman"/>
              </a:rPr>
              <a:t>El Arte nuevo de hacer comedias en este tiempo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 (1609), sentaron las bases del nuevo teatro que propiciarán el éxito de la nueva </a:t>
            </a:r>
            <a:r>
              <a:rPr b="0" i="1" lang="en-US" sz="2000" spc="-1" strike="noStrike">
                <a:solidFill>
                  <a:srgbClr val="374e5f"/>
                </a:solidFill>
                <a:latin typeface="Times New Roman"/>
              </a:rPr>
              <a:t>comedia nacional o nueva.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 A partir de entonces su manera de hacer teatro será constantemente imitada y admirada.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En la época la palabra </a:t>
            </a:r>
            <a:r>
              <a:rPr b="0" i="1" lang="en-US" sz="2000" spc="-1" strike="noStrike">
                <a:solidFill>
                  <a:srgbClr val="374e5f"/>
                </a:solidFill>
                <a:latin typeface="Times New Roman"/>
              </a:rPr>
              <a:t>comedia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 designaba cualquier pieza teatral.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600" spc="-1" strike="noStrike">
                <a:solidFill>
                  <a:srgbClr val="374e5f"/>
                </a:solidFill>
                <a:latin typeface="Times New Roman"/>
              </a:rPr>
              <a:t>El arte nuevo de hacer comedias</a:t>
            </a:r>
            <a:r>
              <a:rPr b="0" lang="ca-ES" sz="3600" spc="-1" strike="noStrike">
                <a:solidFill>
                  <a:srgbClr val="374e5f"/>
                </a:solidFill>
                <a:latin typeface="Times New Roman"/>
              </a:rPr>
              <a:t> (II)</a:t>
            </a: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74e5f"/>
                </a:solidFill>
                <a:latin typeface="Times New Roman"/>
              </a:rPr>
              <a:t>El libro está escrito en verso y se convirtió en el libro de cabecera de cualquier dramaturgo preciado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lvl="1" marL="179280"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74e5f"/>
                </a:solidFill>
                <a:uFillTx/>
                <a:latin typeface="Times New Roman"/>
              </a:rPr>
              <a:t>2 objetivos básicos</a:t>
            </a:r>
            <a:r>
              <a:rPr b="0" lang="es-ES_tradnl" sz="2000" spc="-1" strike="noStrike">
                <a:solidFill>
                  <a:srgbClr val="374e5f"/>
                </a:solidFill>
                <a:latin typeface="Times New Roman"/>
              </a:rPr>
              <a:t>: agradar al público y ser veraz / real, imitar la vida misma. 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lvl="1" marL="179280"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74e5f"/>
                </a:solidFill>
                <a:latin typeface="Times New Roman"/>
              </a:rPr>
              <a:t>El sacar provecho se resume en un tópico: “</a:t>
            </a:r>
            <a:r>
              <a:rPr b="0" i="1" lang="es-ES_tradnl" sz="2000" spc="-1" strike="noStrike">
                <a:solidFill>
                  <a:srgbClr val="374e5f"/>
                </a:solidFill>
                <a:latin typeface="Times New Roman"/>
              </a:rPr>
              <a:t>deleitar aprovechando</a:t>
            </a:r>
            <a:r>
              <a:rPr b="0" lang="es-ES_tradnl" sz="2000" spc="-1" strike="noStrike">
                <a:solidFill>
                  <a:srgbClr val="374e5f"/>
                </a:solidFill>
                <a:latin typeface="Times New Roman"/>
              </a:rPr>
              <a:t>”, entretener al público a la vez que se ofrece una enseñanza. Muchas de las obras tenían un subliminal mensaje (político, propagandístico…)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lvl="1" marL="179280"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74e5f"/>
                </a:solidFill>
                <a:latin typeface="Times New Roman"/>
              </a:rPr>
              <a:t>Que la obra tuviera siempre un personaje “gracioso”, aunque ésta fuera trágica (normalmente como personaje secundario)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lvl="1" marL="179280"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74e5f"/>
                </a:solidFill>
                <a:latin typeface="Times New Roman"/>
              </a:rPr>
              <a:t>Mezcla de personajes (reyes, caballeros, gente del </a:t>
            </a:r>
            <a:r>
              <a:rPr b="0" lang="es-ES_tradnl" sz="2400" spc="-1" strike="noStrike">
                <a:solidFill>
                  <a:srgbClr val="374e5f"/>
                </a:solidFill>
                <a:latin typeface="Times New Roman"/>
              </a:rPr>
              <a:t>pueblo</a:t>
            </a:r>
            <a:r>
              <a:rPr b="0" lang="es-ES_tradnl" sz="2000" spc="-1" strike="noStrike">
                <a:solidFill>
                  <a:srgbClr val="374e5f"/>
                </a:solidFill>
                <a:latin typeface="Times New Roman"/>
              </a:rPr>
              <a:t>, artesanos, clero…) – y sus lenguajes propios (</a:t>
            </a:r>
            <a:r>
              <a:rPr b="0" lang="es-ES_tradnl" sz="2000" spc="-1" strike="noStrike" u="sng">
                <a:solidFill>
                  <a:srgbClr val="374e5f"/>
                </a:solidFill>
                <a:uFillTx/>
                <a:latin typeface="Times New Roman"/>
              </a:rPr>
              <a:t>DECORO</a:t>
            </a:r>
            <a:r>
              <a:rPr b="0" lang="es-ES_tradnl" sz="2000" spc="-1" strike="noStrike">
                <a:solidFill>
                  <a:srgbClr val="374e5f"/>
                </a:solidFill>
                <a:latin typeface="Times New Roman"/>
              </a:rPr>
              <a:t>: cada uno debe hablar de acuerdo con su condición, como pasa en la vida real)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374e5f"/>
                </a:solidFill>
                <a:latin typeface="Times New Roman"/>
              </a:rPr>
              <a:t>LA COMEDIA NUEVA</a:t>
            </a: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4e5f"/>
                </a:solidFill>
                <a:latin typeface="Times New Roman"/>
              </a:rPr>
              <a:t>División de la obra en tres actos o jornadas. Se corresponden con la exposición, el nudo y el desenlace.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4e5f"/>
                </a:solidFill>
                <a:latin typeface="Times New Roman"/>
              </a:rPr>
              <a:t>Mezcla lo cómico y lo trágico en la misma obra (gracioso)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4e5f"/>
                </a:solidFill>
                <a:latin typeface="Times New Roman"/>
              </a:rPr>
              <a:t>Rompe la unidad de tiempo y lugar (varios días, varios lugares) y no cumple de manera estricta la unidad de acción (a veces hay varias intrigas paralelas que se entrecruzan y coinciden al final en un desenlace común)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4e5f"/>
                </a:solidFill>
                <a:latin typeface="Times New Roman"/>
              </a:rPr>
              <a:t>Métrica variable (polimetría) Se expresan sobre todo en verso y la métrica se adapta a las situaciones. La variedad de métrica a veces sirve para diferencias escenas y actos.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74e5f"/>
                </a:solidFill>
                <a:uFillTx/>
                <a:latin typeface="Times New Roman"/>
              </a:rPr>
              <a:t>TEMAS</a:t>
            </a: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: Tratar todo tipo de temas: profanos, religiosos, histórico, legendarios, humorísticos… Lope se dio cuenta de que el público demandaba sobre todo obras con temas básicos como el AMOR y HONOR y fueron temas muy tratados en la dramaturgia barroca.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Articular la obra de teatro en </a:t>
            </a:r>
            <a:r>
              <a:rPr b="0" lang="en-US" sz="2800" spc="-1" strike="noStrike" u="sng">
                <a:solidFill>
                  <a:srgbClr val="374e5f"/>
                </a:solidFill>
                <a:uFillTx/>
                <a:latin typeface="Times New Roman"/>
              </a:rPr>
              <a:t>3 ACTOS</a:t>
            </a: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 o jornadas.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Durante el XVI las obras eran de 3-4-5 actos; Lope fija los actos en 3. Planteando así la estructura típica de introducción – nudo – desenlace y haciendo una buena gestión de la intriga de mantener que el público no pierda el interés.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374e5f"/>
                </a:solidFill>
                <a:latin typeface="Times New Roman"/>
              </a:rPr>
              <a:t>INTRODUCCIÓN</a:t>
            </a: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4e5f"/>
                </a:solidFill>
                <a:latin typeface="Times New Roman"/>
              </a:rPr>
              <a:t>El espectáculo teatral alcanzó gran esplendor y popularidad en el siglo XVII. Se convirtió en la diversión más importante del pueblo.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4e5f"/>
                </a:solidFill>
                <a:latin typeface="Times New Roman"/>
              </a:rPr>
              <a:t>Como era un medio de influencia fue sometido a censura y críticas de los moralistas. Se utilizó para transmitir la ideología del poder monárquico (el rey hace valer los intereses del pueblo frente a los nobles tiranos)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4e5f"/>
                </a:solidFill>
                <a:latin typeface="Times New Roman"/>
              </a:rPr>
              <a:t>Durante esta época el teatro se convierte en una actividad profesional, que cuenta con una amplia aceptación del público, por lo que se constituye como un negocio.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74e5f"/>
                </a:solidFill>
                <a:latin typeface="Times New Roman"/>
              </a:rPr>
              <a:t>Usar el </a:t>
            </a:r>
            <a:r>
              <a:rPr b="0" lang="en-US" sz="2500" spc="-1" strike="noStrike" u="sng">
                <a:solidFill>
                  <a:srgbClr val="374e5f"/>
                </a:solidFill>
                <a:uFillTx/>
                <a:latin typeface="Times New Roman"/>
              </a:rPr>
              <a:t>LENGUAJE </a:t>
            </a:r>
            <a:r>
              <a:rPr b="0" lang="en-US" sz="2500" spc="-1" strike="noStrike">
                <a:solidFill>
                  <a:srgbClr val="374e5f"/>
                </a:solidFill>
                <a:latin typeface="Times New Roman"/>
              </a:rPr>
              <a:t>de la calle si el personaje lo requiere.</a:t>
            </a:r>
            <a:endParaRPr b="0" lang="en-US" sz="25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74e5f"/>
                </a:solidFill>
                <a:latin typeface="Times New Roman"/>
              </a:rPr>
              <a:t>Se utiliza el verso para el teatro, dejando de lado la prosa.</a:t>
            </a:r>
            <a:endParaRPr b="0" lang="en-US" sz="25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74e5f"/>
                </a:solidFill>
                <a:latin typeface="Times New Roman"/>
              </a:rPr>
              <a:t>Polimetría: tanto verso tradicional español como italianizante; sobre todo: redondillas, sonetos, romances, décimas, quintillas, silvas…</a:t>
            </a:r>
            <a:endParaRPr b="0" lang="en-US" sz="25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74e5f"/>
                </a:solidFill>
                <a:latin typeface="Times New Roman"/>
              </a:rPr>
              <a:t>Lope intenta adecuar el metro al tema (romance para narraciones y diálogos; redondillas para situaciones cómicas; décima para las quejas; monólogo para la disertación;…)</a:t>
            </a:r>
            <a:endParaRPr b="0" lang="en-US" sz="25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74e5f"/>
                </a:solidFill>
                <a:latin typeface="Times New Roman"/>
              </a:rPr>
              <a:t>El afán de realidad mandaba adecuar cada lenguaje con su condición social: el rey un lenguaje sublime, el artesano un lenguaje humilde… (decoro expresivo)</a:t>
            </a:r>
            <a:endParaRPr b="0" lang="en-US" sz="25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74e5f"/>
                </a:solidFill>
                <a:latin typeface="Times New Roman"/>
              </a:rPr>
              <a:t>PERSONAJES: no aparecen demasiado caracterizados (tampoco era su intención), siguen esquemas fijos; la voluntad era hacer obras de acción… Por eso, la mayoría de actantes son personajes-tipo. Los más tipicos: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74e5f"/>
                </a:solidFill>
                <a:latin typeface="Times New Roman"/>
              </a:rPr>
              <a:t>El rey: soberbio, sabio, viejo… representa la justicia y el orden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74e5f"/>
                </a:solidFill>
                <a:latin typeface="Times New Roman"/>
              </a:rPr>
              <a:t>El poderoso – noble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74e5f"/>
                </a:solidFill>
                <a:latin typeface="Times New Roman"/>
              </a:rPr>
              <a:t>El caballero: puede ser padre, esposo, hermano, galán…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74e5f"/>
                </a:solidFill>
                <a:latin typeface="Times New Roman"/>
              </a:rPr>
              <a:t>La dama y su criada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74e5f"/>
                </a:solidFill>
                <a:latin typeface="Times New Roman"/>
              </a:rPr>
              <a:t>El gracioso: es la contrafigura del galán, es práctico, realista,  irónico…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74e5f"/>
                </a:solidFill>
                <a:latin typeface="Times New Roman"/>
              </a:rPr>
              <a:t>El bobo o donaire: a veces actúa como narrador de sucesos no presentes escena, otras sirvede vínculo con el público (apartes)…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1280" y="411120"/>
            <a:ext cx="8064360" cy="59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7920000" cy="61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8000" y="419040"/>
            <a:ext cx="8893080" cy="60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4000" y="438120"/>
            <a:ext cx="8569080" cy="59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8360" y="249120"/>
            <a:ext cx="82803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16000" y="260280"/>
            <a:ext cx="8748720" cy="62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3080" y="457200"/>
            <a:ext cx="30942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4e5f"/>
                </a:solidFill>
                <a:latin typeface="Times New Roman"/>
              </a:rPr>
              <a:t>LOPE DE VEGA</a:t>
            </a:r>
            <a:endParaRPr b="0" lang="en-US" sz="32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906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ctura pequeña biografía p. 285.</a:t>
            </a:r>
            <a:r>
              <a:rPr b="0" lang="en-US" sz="2400" spc="-1" strike="noStrike">
                <a:solidFill>
                  <a:srgbClr val="374e5f"/>
                </a:solidFill>
                <a:latin typeface="Times New Roman"/>
              </a:rPr>
              <a:t> Fue un escritor muy prolífico (poesía, teatro, novela), aunque lo más destacado de su obra será el teatro; en poesía, rivalizó con Quevedo y Góngora.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Times New Roman"/>
              </a:rPr>
              <a:t>Fue un hombre muy querido por su pueblo. Lo despidió una multitud de hombres y mujeres el día de su entierro.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3048120" cy="4152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360" y="5300640"/>
            <a:ext cx="7991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74e5f"/>
                </a:solidFill>
                <a:latin typeface="Times New Roman"/>
              </a:rPr>
              <a:t>Obras de teatro: </a:t>
            </a:r>
            <a:r>
              <a:rPr b="0" i="1" lang="es-ES_tradnl" sz="2400" spc="-1" strike="noStrike">
                <a:solidFill>
                  <a:srgbClr val="374e5f"/>
                </a:solidFill>
                <a:latin typeface="Times New Roman"/>
              </a:rPr>
              <a:t>Fuente ovejuna, Peribáñez, El caballero de Olmedo, La dama boba…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374e5f"/>
                </a:solidFill>
                <a:latin typeface="Times New Roman"/>
              </a:rPr>
              <a:t>TIRSO DE MOLINA</a:t>
            </a: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606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4e5f"/>
                </a:solidFill>
                <a:latin typeface="Times New Roman"/>
              </a:rPr>
              <a:t>En realidad se llamaba Gabriel Téllez; Tirso de Molina era un seudónimo.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4e5f"/>
                </a:solidFill>
                <a:latin typeface="Times New Roman"/>
              </a:rPr>
              <a:t>Fue un gran seguidor de Lope de Vega; en su teatro introduce innovaciones que abren camino a la renovación que llevará a cabo Calderón de la Barca.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4e5f"/>
                </a:solidFill>
                <a:latin typeface="Times New Roman"/>
              </a:rPr>
              <a:t>Su obra más importante fue </a:t>
            </a:r>
            <a:r>
              <a:rPr b="0" i="1" lang="ca-ES" sz="2400" spc="-1" strike="noStrike">
                <a:solidFill>
                  <a:srgbClr val="374e5f"/>
                </a:solidFill>
                <a:latin typeface="Times New Roman"/>
              </a:rPr>
              <a:t>El burlador de Sevilla</a:t>
            </a:r>
            <a:r>
              <a:rPr b="0" lang="ca-ES" sz="2400" spc="-1" strike="noStrike">
                <a:solidFill>
                  <a:srgbClr val="374e5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580000" y="1978200"/>
            <a:ext cx="323856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4e5f"/>
                </a:solidFill>
                <a:latin typeface="Times New Roman"/>
              </a:rPr>
              <a:t>ANTECEDENTES</a:t>
            </a:r>
            <a:endParaRPr b="0" lang="en-US" sz="32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En el s.XVI-XVII nos encontramos con distintas variantes de teatro: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74e5f"/>
                </a:solidFill>
                <a:uFillTx/>
                <a:latin typeface="Times New Roman"/>
              </a:rPr>
              <a:t>Teatro religioso</a:t>
            </a: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: que continúa el drama litúrgico medieval y que deriva en el Barroco en los </a:t>
            </a:r>
            <a:r>
              <a:rPr b="0" i="1" lang="en-US" sz="2800" spc="-1" strike="noStrike">
                <a:solidFill>
                  <a:srgbClr val="374e5f"/>
                </a:solidFill>
                <a:latin typeface="Times New Roman"/>
              </a:rPr>
              <a:t>Autos Sacramentales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74e5f"/>
                </a:solidFill>
                <a:uFillTx/>
                <a:latin typeface="Times New Roman"/>
              </a:rPr>
              <a:t>Teatro cortesano</a:t>
            </a: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: el gusto de los nobles por este tipo de divertimentos hace que surja un teatro representado en cortes y palacios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Teatro popular que es el que alcanzó mayor éxito, representado en plazas populares y luego en </a:t>
            </a:r>
            <a:r>
              <a:rPr b="0" lang="en-US" sz="2800" spc="-1" strike="noStrike" u="sng">
                <a:solidFill>
                  <a:srgbClr val="374e5f"/>
                </a:solidFill>
                <a:uFillTx/>
                <a:latin typeface="Times New Roman"/>
              </a:rPr>
              <a:t>corrales de comedia</a:t>
            </a: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, dirigido a la gran mayoría de público. Es el de más éxito.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374e5f"/>
                </a:solidFill>
                <a:latin typeface="Times New Roman"/>
              </a:rPr>
              <a:t>PEDRO CALDERÓN DE LA BARCA</a:t>
            </a: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832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ff3300"/>
                </a:solidFill>
                <a:latin typeface="Times New Roman"/>
              </a:rPr>
              <a:t>Leer la biografía y los apuntes sobre su trayectoria y su obra de la p. 290</a:t>
            </a: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374e5f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Sigue las innovaciones de la comedia nueva pero las perfecciona. Crea un teatro que profundiza en los grandes problemas filosóficos y morales de su época.</a:t>
            </a:r>
            <a:endParaRPr b="0" lang="en-US" sz="2200" spc="-1" strike="noStrike">
              <a:solidFill>
                <a:srgbClr val="374e5f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Simplifica la trama, disminuye el número de personajes y da más peso a los protagonistas, se centra en el contenido reflexivo, hace más complejos el lenguaje y el estilo.</a:t>
            </a:r>
            <a:endParaRPr b="0" lang="en-US" sz="2200" spc="-1" strike="noStrike">
              <a:solidFill>
                <a:srgbClr val="374e5f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Sus obras más importantes son: </a:t>
            </a:r>
            <a:r>
              <a:rPr b="0" i="1" lang="ca-ES" sz="2200" spc="-1" strike="noStrike">
                <a:solidFill>
                  <a:srgbClr val="374e5f"/>
                </a:solidFill>
                <a:latin typeface="Times New Roman"/>
              </a:rPr>
              <a:t>La vida es sueño</a:t>
            </a: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,</a:t>
            </a:r>
            <a:r>
              <a:rPr b="0" i="1" lang="ca-ES" sz="2200" spc="-1" strike="noStrike">
                <a:solidFill>
                  <a:srgbClr val="374e5f"/>
                </a:solidFill>
                <a:latin typeface="Times New Roman"/>
              </a:rPr>
              <a:t> La dama duende</a:t>
            </a: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, </a:t>
            </a:r>
            <a:r>
              <a:rPr b="0" i="1" lang="ca-ES" sz="2200" spc="-1" strike="noStrike">
                <a:solidFill>
                  <a:srgbClr val="374e5f"/>
                </a:solidFill>
                <a:latin typeface="Times New Roman"/>
              </a:rPr>
              <a:t>El alcalde de Zalamea</a:t>
            </a: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 y </a:t>
            </a:r>
            <a:r>
              <a:rPr b="0" i="1" lang="ca-ES" sz="2200" spc="-1" strike="noStrike">
                <a:solidFill>
                  <a:srgbClr val="374e5f"/>
                </a:solidFill>
                <a:latin typeface="Times New Roman"/>
              </a:rPr>
              <a:t>El gran teatro del mundo</a:t>
            </a: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 (auto sacramental).</a:t>
            </a:r>
            <a:endParaRPr b="0" lang="en-US" sz="2200" spc="-1" strike="noStrike">
              <a:solidFill>
                <a:srgbClr val="374e5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372360" y="1844640"/>
            <a:ext cx="24289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10920" y="1676160"/>
            <a:ext cx="8281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74e5f"/>
                </a:solidFill>
                <a:latin typeface="Times New Roman"/>
              </a:rPr>
              <a:t>Diapositivas nº 22-27 extraídas de:</a:t>
            </a:r>
            <a:endParaRPr b="0" lang="en-US" sz="25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c09e4a"/>
                </a:solidFill>
                <a:uFillTx/>
                <a:latin typeface="Times New Roman"/>
                <a:hlinkClick r:id="rId2"/>
              </a:rPr>
              <a:t>http://www.slideshare.net/profelengua/el-barroco-54396/1</a:t>
            </a:r>
            <a:endParaRPr b="0" lang="en-US" sz="25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374e5f"/>
                </a:solidFill>
                <a:latin typeface="Times New Roman"/>
              </a:rPr>
              <a:t>LUGARES DE REPRESENTACIÓN</a:t>
            </a: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Se desarrolla en varios ámbitos:</a:t>
            </a:r>
            <a:endParaRPr b="0" lang="en-US" sz="2200" spc="-1" strike="noStrike">
              <a:solidFill>
                <a:srgbClr val="374e5f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 u="sng">
                <a:solidFill>
                  <a:srgbClr val="374e5f"/>
                </a:solidFill>
                <a:uFillTx/>
                <a:latin typeface="Times New Roman"/>
              </a:rPr>
              <a:t>Corral de comedias</a:t>
            </a: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, que se perfecciona durante este siglo. Acoge un </a:t>
            </a:r>
            <a:r>
              <a:rPr b="1" lang="ca-ES" sz="2200" spc="-1" strike="noStrike">
                <a:solidFill>
                  <a:srgbClr val="374e5f"/>
                </a:solidFill>
                <a:latin typeface="Times New Roman"/>
              </a:rPr>
              <a:t>teatro popular</a:t>
            </a: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 representado por diversas compañías de actores. Los espectadores pagan por asistir a las funciones, que se realizan de manera regular durante la temporada teatral.</a:t>
            </a:r>
            <a:endParaRPr b="0" lang="en-US" sz="2200" spc="-1" strike="noStrike">
              <a:solidFill>
                <a:srgbClr val="374e5f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 u="sng">
                <a:solidFill>
                  <a:srgbClr val="374e5f"/>
                </a:solidFill>
                <a:uFillTx/>
                <a:latin typeface="Times New Roman"/>
              </a:rPr>
              <a:t>Palacios</a:t>
            </a: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, acogen un tipo de </a:t>
            </a:r>
            <a:r>
              <a:rPr b="1" lang="ca-ES" sz="2200" spc="-1" strike="noStrike">
                <a:solidFill>
                  <a:srgbClr val="374e5f"/>
                </a:solidFill>
                <a:latin typeface="Times New Roman"/>
              </a:rPr>
              <a:t>teatro cortesano</a:t>
            </a: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, subvencionado por el rey o los nobles. Goza de mayores medios escenográficos.</a:t>
            </a:r>
            <a:endParaRPr b="0" lang="en-US" sz="2200" spc="-1" strike="noStrike">
              <a:solidFill>
                <a:srgbClr val="374e5f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 u="sng">
                <a:solidFill>
                  <a:srgbClr val="374e5f"/>
                </a:solidFill>
                <a:uFillTx/>
                <a:latin typeface="Times New Roman"/>
              </a:rPr>
              <a:t>Plazas</a:t>
            </a: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, se ponía un carro y se representaban </a:t>
            </a:r>
            <a:r>
              <a:rPr b="1" lang="ca-ES" sz="2200" spc="-1" strike="noStrike">
                <a:solidFill>
                  <a:srgbClr val="374e5f"/>
                </a:solidFill>
                <a:latin typeface="Times New Roman"/>
              </a:rPr>
              <a:t>autos sacramentales</a:t>
            </a: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, géneros menores, herederos del teatro religioso del siglo XVI. Se vinculaba con la festividad del Corpus y estaba sufragado por los ayuntamientos.</a:t>
            </a:r>
            <a:endParaRPr b="0" lang="en-US" sz="22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4e5f"/>
                </a:solidFill>
                <a:latin typeface="Times New Roman"/>
              </a:rPr>
              <a:t>TEATRO POPULAR</a:t>
            </a:r>
            <a:endParaRPr b="0" lang="en-US" sz="32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4e5f"/>
                </a:solidFill>
                <a:latin typeface="Times New Roman"/>
              </a:rPr>
              <a:t>Este teatro popular se desarrollaba al aire libre, los actores eran ambulantes y el </a:t>
            </a:r>
            <a:r>
              <a:rPr b="0" i="1" lang="en-US" sz="3200" spc="-1" strike="noStrike">
                <a:solidFill>
                  <a:srgbClr val="374e5f"/>
                </a:solidFill>
                <a:latin typeface="Times New Roman"/>
              </a:rPr>
              <a:t>atrezzo </a:t>
            </a:r>
            <a:r>
              <a:rPr b="0" lang="en-US" sz="3200" spc="-1" strike="noStrike">
                <a:solidFill>
                  <a:srgbClr val="374e5f"/>
                </a:solidFill>
                <a:latin typeface="Times New Roman"/>
              </a:rPr>
              <a:t>rudimentario.</a:t>
            </a:r>
            <a:endParaRPr b="0" lang="en-US" sz="32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4e5f"/>
                </a:solidFill>
                <a:latin typeface="Times New Roman"/>
              </a:rPr>
              <a:t>A medida que fue creciendo en demanda aparecen unas estructuras donde empezaran a escenificar, se trata de los </a:t>
            </a:r>
            <a:r>
              <a:rPr b="0" lang="en-US" sz="3200" spc="-1" strike="noStrike" u="sng">
                <a:solidFill>
                  <a:srgbClr val="374e5f"/>
                </a:solidFill>
                <a:uFillTx/>
                <a:latin typeface="Times New Roman"/>
              </a:rPr>
              <a:t>corrales de comedias</a:t>
            </a:r>
            <a:r>
              <a:rPr b="0" lang="en-US" sz="3200" spc="-1" strike="noStrike">
                <a:solidFill>
                  <a:srgbClr val="374e5f"/>
                </a:solidFill>
                <a:latin typeface="Times New Roman"/>
              </a:rPr>
              <a:t>. Se trataba del patio central (patio de luces) que resultaba de la unión de varios edificios. Ahí se representaba:</a:t>
            </a:r>
            <a:endParaRPr b="0" lang="en-US" sz="32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050920" y="476280"/>
            <a:ext cx="526572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961920"/>
            <a:ext cx="8353440" cy="48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8533080" cy="46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332000" y="295200"/>
            <a:ext cx="6408720" cy="628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4:46:04Z</dcterms:created>
  <dc:creator>amanda</dc:creator>
  <dc:description/>
  <dc:language>en-US</dc:language>
  <cp:lastModifiedBy>RUTHRAMON</cp:lastModifiedBy>
  <dcterms:modified xsi:type="dcterms:W3CDTF">2008-06-03T18:06:58Z</dcterms:modified>
  <cp:revision>10</cp:revision>
  <dc:subject/>
  <dc:title>Tema 18: El teatro Barroco</dc:title>
</cp:coreProperties>
</file>